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8D9-BF15-49D0-AC6F-485721D8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4EB-1634-4802-A47F-5C572E1A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B61-E1B1-46AF-AB1D-934D6FC1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0A3-7FA0-4B2C-B8C7-2CD4B289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DF9-3A44-4F8B-ACAD-39A12115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868-077A-4626-B885-169F3E93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8FB-C88A-4124-9D9E-A0AB1C19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FA7-CF41-4CCF-B7A7-60CC8A41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406-8487-42A7-AB0E-31BDB687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E1F-869C-480A-AA0F-F8A26F0A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B5E-4B21-408D-8BAF-91CD613D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807-E3A5-4E15-878E-A047C161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DE18-52A4-4F32-AD4A-219B5F298E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15772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62120" y="1295280"/>
            <a:ext cx="792468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file contains the Plenary for this chapter in </a:t>
            </a:r>
            <a:br>
              <a:rPr sz="1800"/>
            </a:br>
            <a:r>
              <a:rPr b="0" i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Physics For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owerPoint of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well they have understood each section of work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o view a PowerPoint in ‘Full Screen’ mode, press Function key &lt;F5&gt;, 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(or right-click your mouse and select ‘Full Screen’).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Press &lt;Escape&gt; to go to Edit m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57150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1 – Working Scientif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Working Scientif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1219320"/>
            <a:ext cx="784836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are the variables call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at must not change during an investi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does ‘anomalous’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must be 3 things to be used by scientists. 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is a dependent vari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1219320"/>
            <a:ext cx="784836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are the variables call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at must not change during an investi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does ‘anomalous’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must be 3 things to be used by scientists. 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is a dependent vari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219320" y="192096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ontro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219320" y="2819520"/>
            <a:ext cx="61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 is data that does not fit the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219320" y="4114800"/>
            <a:ext cx="62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epeatable,  Reproducible,  and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219320" y="5045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 variable that changes because an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dependent variable has been changed by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1055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3808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Working Scientif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05T09:57:37Z</dcterms:modified>
  <cp:revision>26</cp:revision>
  <dc:subject>Physics for You Support File</dc:subject>
  <dc:title>Physics for You</dc:title>
</cp:coreProperties>
</file>