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AB4-377F-4FFE-81E0-B8EF3A8E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011-137C-4D41-A62B-AF93DE6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914-4FC4-4C3C-BBDC-975F66A0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FE2-33E5-4C05-A1E4-AE64FD45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F6E-E174-47E7-B1EF-D86B917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7C0-4047-4F18-ADD0-BB180EF9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2D7-B8A3-4151-B2F4-DEFA4EA9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606-33F0-4854-9E92-9F02DB41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212-2134-49AE-820A-4ACD638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8D7-71BC-4A29-934F-EF01A07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7BE-B1EC-4B47-A22A-A37AD8F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159-35B5-4B8F-A9AD-C3B43B8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FDF-2205-45E7-9A9F-3E503FEA0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 view a PowerPoint in ‘Full Screen’ mode, either press Function key &lt;F5&gt;, or right-click your mouse and select ‘Full Scree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762120" y="1600200"/>
            <a:ext cx="7772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tists use theories and model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experiments and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tific ideas change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some questions that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ce canno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62120" y="380880"/>
            <a:ext cx="7391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 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1600200"/>
            <a:ext cx="777240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steps in an investig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lanning, and identifying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observing &amp; measu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resenting data (in tables &amp; graphs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nalysing, and drawing a conclu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400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evalu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62120" y="380880"/>
            <a:ext cx="76197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828800"/>
            <a:ext cx="77724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abl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indepe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depe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6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380880"/>
            <a:ext cx="73911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62120" y="1828800"/>
            <a:ext cx="7772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ata should be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repea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reproduci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evidence may not be rel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62120" y="380880"/>
            <a:ext cx="76197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82880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ce can chang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ety can control the use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entific discov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380880"/>
            <a:ext cx="76197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Working Scientifically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5T09:56:39Z</dcterms:modified>
  <cp:revision>13</cp:revision>
  <dc:subject>Physics for You Support File</dc:subject>
  <dc:title>Physics for You</dc:title>
</cp:coreProperties>
</file>