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89AF-F033-4B0B-A989-B620E0E3F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662A-9927-48E6-9D44-2F9AC539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A442-D14D-4C33-8813-286D7A6BC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D0FC-3C6D-4916-A78B-9D5285604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3DA1-376D-4919-9359-60E26055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4C1F-DFDE-4F94-A662-9E0E8009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483F-3D77-4C6B-A3E7-42BB258E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3403-AC20-4136-9703-ED8F02BD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E203-AEBD-4126-914F-A443C204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66FD-CB83-4DFD-A20B-07224CB7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3A54-D1AC-42D3-949D-00D3D7EB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3DB1-4624-4E7D-8E32-D5ADA1A7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AEA3-90AD-4DCC-AE26-938B67CF6E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"/>
          <p:cNvPicPr/>
          <p:nvPr/>
        </p:nvPicPr>
        <p:blipFill>
          <a:blip r:embed="rId2"/>
          <a:stretch/>
        </p:blipFill>
        <p:spPr>
          <a:xfrm>
            <a:off x="8675640" y="5229360"/>
            <a:ext cx="247680" cy="11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762120" y="533520"/>
            <a:ext cx="47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755640" y="1341360"/>
            <a:ext cx="7924680" cy="46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owerPoint file contains some Learning Objectives for this chapter in 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Physics For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 a limited amount of colour has been used on these slides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of course you can customise them in any way you w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well as introducing each lesson with the relevant slide, and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ing the slide to summarise at the end of the lesson, you may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 find the slides useful for a quick revision cou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that you can tell when to stop clicking, the last line (only) on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slide has a full sto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To view a PowerPoint in ‘Full Screen’ mode, </a:t>
            </a:r>
            <a:br>
              <a:rPr sz="2000"/>
            </a:b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either press Function key &lt;F5&gt;, </a:t>
            </a:r>
            <a:br>
              <a:rPr sz="2000"/>
            </a:b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or right-click your mouse and select ‘Full Screen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6"/>
          <p:cNvSpPr/>
          <p:nvPr/>
        </p:nvSpPr>
        <p:spPr>
          <a:xfrm>
            <a:off x="762120" y="380880"/>
            <a:ext cx="670536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Arial"/>
              </a:rPr>
              <a:t>Working Scientificall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should learn:</a:t>
            </a: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762120" y="1752480"/>
            <a:ext cx="813096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scientists investigate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we mean by ‘evidence’ and ‘data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</a:t>
            </a:r>
            <a:r>
              <a:rPr b="1" lang="en-GB" sz="3200" spc="-1" strike="noStrike">
                <a:solidFill>
                  <a:srgbClr val="008000"/>
                </a:solidFill>
                <a:latin typeface="Arial"/>
              </a:rPr>
              <a:t>repeatab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008000"/>
                </a:solidFill>
                <a:latin typeface="Arial"/>
              </a:rPr>
              <a:t>reproducib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</a:t>
            </a:r>
            <a:r>
              <a:rPr b="1" lang="en-GB" sz="3200" spc="-1" strike="noStrike">
                <a:solidFill>
                  <a:srgbClr val="008000"/>
                </a:solidFill>
                <a:latin typeface="Arial"/>
              </a:rPr>
              <a:t>vali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the questions that Science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or can’t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" dur="1" fill="hold"/>
                                  <p:tgtEl>
                                    <p:spTgt spid="4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762120" y="380880"/>
            <a:ext cx="670536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Arial"/>
              </a:rPr>
              <a:t>Working Scientifical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should learn:</a:t>
            </a: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762120" y="1752480"/>
            <a:ext cx="77724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o plan an invest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the different types of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it is important to carry out trial r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difference between </a:t>
            </a:r>
            <a:r>
              <a:rPr b="1" lang="en-GB" sz="3200" spc="-1" strike="noStrike">
                <a:solidFill>
                  <a:srgbClr val="008000"/>
                </a:solidFill>
                <a:latin typeface="Arial"/>
              </a:rPr>
              <a:t>accurac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3200" spc="-1" strike="noStrike">
                <a:solidFill>
                  <a:srgbClr val="008000"/>
                </a:solidFill>
                <a:latin typeface="Arial"/>
              </a:rPr>
              <a:t>precis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" dur="1" fill="hold"/>
                                  <p:tgtEl>
                                    <p:spTgt spid="4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762120" y="380880"/>
            <a:ext cx="670536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Arial"/>
              </a:rPr>
              <a:t>Working Scientifical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should learn:</a:t>
            </a: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762120" y="1752480"/>
            <a:ext cx="77724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o presen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graphs can be used to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alyse data and find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o reach a conclusion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sed on the evidence coll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o evaluate your result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your conclu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7" dur="1" fill="hold"/>
                                  <p:tgtEl>
                                    <p:spTgt spid="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8388360" y="2781360"/>
            <a:ext cx="576360" cy="3816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10:29:50Z</dcterms:created>
  <dc:creator>Keith Johnson (c)   www.timetabler.com</dc:creator>
  <dc:description>Show Full Screen, via &lt;F5&gt;, or right-click with mouse.</dc:description>
  <cp:keywords>GCSE Physics  (c) Keith and Ann Johnson</cp:keywords>
  <dc:language>en-US</dc:language>
  <cp:lastModifiedBy>Keith</cp:lastModifiedBy>
  <dcterms:modified xsi:type="dcterms:W3CDTF">2017-04-05T09:57:08Z</dcterms:modified>
  <cp:revision>10</cp:revision>
  <dc:subject>Physics for You Support File</dc:subject>
  <dc:title>Physics for You</dc:title>
</cp:coreProperties>
</file>